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0E68-8F71-463D-ADF8-EEBC8907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21F-1D14-4D4E-B5AF-FDFAEDD4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26FD-517E-4F09-9355-A1EC0D76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77D2-6505-4CE8-AFA4-560615F3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494C-44ED-4A50-A4AE-44C8755E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53FB-4309-4553-9414-4407F216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CBFC-D334-40B8-9870-ABAE60D7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F624-0BD5-4DD4-B258-2920A491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84DC-BE00-4E79-A6AC-1583A2F3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3EE8-BA71-475C-A93F-59FB3383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613B-088D-4FCD-B8B4-EEADACB0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E4B3-8FC8-4732-9B48-4973C5BA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8A9A-F073-4621-A474-C8874733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4934-FFEA-4A4A-B296-C95D2FF1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9321-16B6-4426-BCDA-DDE15755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B4E6-CD28-4E56-9D6B-94F92D34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0F05-9DD2-40F9-A91E-D2F897EE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378E-C03B-4269-9CF7-80D5C608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358-496D-4674-BA6A-3B843A7D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C0D4-99F7-471C-B2FB-D9048724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B9BF-2D70-433B-A020-D97A7F56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F2C8-00E6-4BF9-A113-B31D7511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C256-80CF-4491-B1CA-B508E49C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CB64-B9A6-47ED-8F23-D60DB485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0D03-A409-4008-8018-292E757F47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C462-37EC-4271-9D3F-84C34C6923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6666"/>
                </a:solidFill>
                <a:latin typeface="Arial"/>
              </a:rPr>
              <a:t>Lyon</a:t>
            </a:r>
            <a:endParaRPr b="0" lang="en-US" sz="9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66920" cy="914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1619280" y="3141720"/>
            <a:ext cx="6696000" cy="23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Ly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yon est la troisième ville de Franc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25" descr=""/>
          <p:cNvPicPr/>
          <p:nvPr/>
        </p:nvPicPr>
        <p:blipFill>
          <a:blip r:embed="rId1"/>
          <a:stretch/>
        </p:blipFill>
        <p:spPr>
          <a:xfrm>
            <a:off x="6659640" y="2997360"/>
            <a:ext cx="1297080" cy="866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6" descr=""/>
          <p:cNvPicPr/>
          <p:nvPr/>
        </p:nvPicPr>
        <p:blipFill>
          <a:blip r:embed="rId2"/>
          <a:stretch/>
        </p:blipFill>
        <p:spPr>
          <a:xfrm>
            <a:off x="755640" y="3068640"/>
            <a:ext cx="2286000" cy="2216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7" descr=""/>
          <p:cNvPicPr/>
          <p:nvPr/>
        </p:nvPicPr>
        <p:blipFill>
          <a:blip r:embed="rId3"/>
          <a:stretch/>
        </p:blipFill>
        <p:spPr>
          <a:xfrm>
            <a:off x="3492360" y="4292640"/>
            <a:ext cx="4457880" cy="15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Ly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763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Fête des Lumières est un événement important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3635280" y="4365720"/>
            <a:ext cx="2665440" cy="2000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6811920" y="3357720"/>
            <a:ext cx="1714680" cy="2735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251928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Ly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s paysages de la région sont variés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900000" y="3068640"/>
            <a:ext cx="2857680" cy="1593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2700360" y="5013360"/>
            <a:ext cx="2286000" cy="1604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3"/>
          <a:stretch/>
        </p:blipFill>
        <p:spPr>
          <a:xfrm>
            <a:off x="4859280" y="3068640"/>
            <a:ext cx="2743200" cy="1620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4"/>
          <a:stretch/>
        </p:blipFill>
        <p:spPr>
          <a:xfrm>
            <a:off x="6372360" y="5013360"/>
            <a:ext cx="216036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Ly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 cinéma a été inventé à Lyo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2441520" cy="3024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2"/>
          <a:stretch/>
        </p:blipFill>
        <p:spPr>
          <a:xfrm>
            <a:off x="6156360" y="314172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3"/>
          <a:stretch/>
        </p:blipFill>
        <p:spPr>
          <a:xfrm>
            <a:off x="4211640" y="4508640"/>
            <a:ext cx="144000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Ly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Les fresques de Lyon sont connue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7" descr="http://www.cite-creation.com/actualites/wp-content/uploads/2012/07/Le-Mur-des-Canuts-2-version-.jpg"/>
          <p:cNvPicPr/>
          <p:nvPr/>
        </p:nvPicPr>
        <p:blipFill>
          <a:blip r:embed="rId1"/>
          <a:stretch/>
        </p:blipFill>
        <p:spPr>
          <a:xfrm>
            <a:off x="2987640" y="3213000"/>
            <a:ext cx="439272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Ly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l y a de nombreux festival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2087640" cy="185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"/>
          <p:cNvPicPr/>
          <p:nvPr/>
        </p:nvPicPr>
        <p:blipFill>
          <a:blip r:embed="rId2"/>
          <a:stretch/>
        </p:blipFill>
        <p:spPr>
          <a:xfrm>
            <a:off x="4140360" y="2781360"/>
            <a:ext cx="2592360" cy="1736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3"/>
          <a:stretch/>
        </p:blipFill>
        <p:spPr>
          <a:xfrm>
            <a:off x="539640" y="4941720"/>
            <a:ext cx="1584360" cy="1438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"/>
          <p:cNvPicPr/>
          <p:nvPr/>
        </p:nvPicPr>
        <p:blipFill>
          <a:blip r:embed="rId4"/>
          <a:stretch/>
        </p:blipFill>
        <p:spPr>
          <a:xfrm>
            <a:off x="7164360" y="4221000"/>
            <a:ext cx="1444680" cy="216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5"/>
          <a:stretch/>
        </p:blipFill>
        <p:spPr>
          <a:xfrm>
            <a:off x="2771640" y="4941720"/>
            <a:ext cx="262908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Ly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n appelle Lyon la capitale mondiale de la gastronomie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539640" y="3213000"/>
            <a:ext cx="2232000" cy="1344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2"/>
          <a:stretch/>
        </p:blipFill>
        <p:spPr>
          <a:xfrm>
            <a:off x="6877080" y="3284640"/>
            <a:ext cx="1868400" cy="1871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3"/>
          <a:stretch/>
        </p:blipFill>
        <p:spPr>
          <a:xfrm>
            <a:off x="3995640" y="3429000"/>
            <a:ext cx="2303640" cy="1476360"/>
          </a:xfrm>
          <a:prstGeom prst="rect">
            <a:avLst/>
          </a:prstGeom>
          <a:ln w="0">
            <a:noFill/>
          </a:ln>
        </p:spPr>
      </p:pic>
      <p:pic>
        <p:nvPicPr>
          <p:cNvPr id="129" name="irc_mi" descr="http://merveilleusenature.m.e.pic.centerblog.net/ox2k041x.jpg"/>
          <p:cNvPicPr/>
          <p:nvPr/>
        </p:nvPicPr>
        <p:blipFill>
          <a:blip r:embed="rId4"/>
          <a:stretch/>
        </p:blipFill>
        <p:spPr>
          <a:xfrm>
            <a:off x="2268360" y="4797360"/>
            <a:ext cx="1317960" cy="1859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"/>
          <p:cNvPicPr/>
          <p:nvPr/>
        </p:nvPicPr>
        <p:blipFill>
          <a:blip r:embed="rId5"/>
          <a:stretch/>
        </p:blipFill>
        <p:spPr>
          <a:xfrm>
            <a:off x="5940360" y="5300640"/>
            <a:ext cx="1440000" cy="10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0:12:09Z</dcterms:created>
  <dc:creator>CEC</dc:creator>
  <dc:description/>
  <dc:language>en-US</dc:language>
  <cp:lastModifiedBy>Delphine Gachet</cp:lastModifiedBy>
  <dcterms:modified xsi:type="dcterms:W3CDTF">2013-02-24T12:35:03Z</dcterms:modified>
  <cp:revision>13</cp:revision>
  <dc:subject/>
  <dc:title>Genève</dc:title>
</cp:coreProperties>
</file>